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C974-5FA5-4353-BC3C-6FAE33AA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EB10-5F91-43B4-BB7F-17D3F253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DA2B3-E52F-4D0E-B72E-0389F989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B5B84-F2F1-4847-8796-644866F3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E8550-B2DC-4E29-8199-4B860400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C52DF-B8AE-4347-A7E8-E429FCE1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AF310-7B76-4D93-AA29-51BAFCA0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0615D-FFA6-4022-85F1-56DDFDB2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B0A61-1869-429A-B9EF-E44A5311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A8192-3D36-43EA-AF51-3FA6F132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594D3-5A48-4E36-91EB-DDB39B5F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79D73-2C34-49D4-BC46-221CC39F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B6BE-079E-43AE-A41C-E61BC7F7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07979-2773-487E-BEA3-1E458DE6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4F99E-802D-4623-ACE7-2660FD33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ADBB9-92C8-4510-B097-DEFDC512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C1565-B41F-4CE0-BE77-35576527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2A918-ECF3-4143-A383-F9248B7D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851D8-3956-4FBA-8C56-7D0EA83F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1E57B-7E1C-44D4-AD77-1AE2E55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736D9-1B9C-4B47-B291-784F7E0D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DB27C-135D-4AC2-B47C-A1E314AC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F7A98-1F7F-4E8D-960B-06258092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B133-E395-4973-B229-8CDEB3AE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AB2A3-EF8C-42AA-BB75-EB15F829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4AECA-4645-4FC9-B3B5-EA7162C1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D7BC1-8CDA-4540-94BB-75E030DE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68167-9026-4D4F-AC77-C9F420BF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111D9-F9D1-483A-8610-86A5ADA8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927DC-D4BE-4743-AAA3-44829B3A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5EBB7-DA9F-4D7E-B788-78A9D2C5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A8109-6F5E-4637-8D65-F6F45CA6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84A40-B72B-4BA3-9C87-29A686A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2F0A2-7498-4F56-9464-CEFEB61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20A4-4D0B-4084-AD49-98B42F75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D571C-A42C-4E1B-A5EF-ECADDEDC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D5384-C35A-41FE-B0BD-FF5F193B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4B72C-9A0D-4E2F-B9AE-15D5FE91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83F00-C74B-4AE9-BB1C-C107457A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DF185-97E2-4567-8E16-87C73BEB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46D66-2FC6-4129-AF43-FCB699D5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F1C38-FDDF-4AA2-8579-116ABBEF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AD306-A893-4D71-8B12-013403F4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25736-2F31-41E8-802A-C2E68E7A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5C910-1A4E-4E6F-A067-D5BCCE15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3D33-B309-4D16-BDC3-0EE0918F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54711-C410-4448-B42F-AA060944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FFE23-60C7-4252-90E8-6C1BD6EA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0615E-67B0-4CB7-BEF6-11AF4FE1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A2764-2F1D-44EC-8C44-B30C59E5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CF078-9FC2-4D33-8EED-0FA81328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9E438-122B-4AFB-9E2D-E378F264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798DD-0EE2-479A-B9C3-2D4AD061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B74A8-3F30-40B0-B5F8-40D8E75C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8DC7B-84EE-428D-9CF0-6BAE76BF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94184-03DD-4718-816D-2C583FDA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7E94-A52B-432B-8780-2CE0E814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67375-29C9-4077-B7F7-0FDCFCF8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52E4F-A7FA-4C0F-B7BF-EAF9BB4B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53344-170B-42A0-8596-9340DDBA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04B86-DE56-488A-B755-E3B91CE6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35A3C-F1BC-49A0-98B4-645540F2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2824B-3958-4166-AD96-BF0E9F17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31FA5-1FDE-4100-975D-FD9E0284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048FD-033A-4DE0-9000-08030FAB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87F51-1C80-4FBE-8966-7F56F170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97B59-B87F-45F0-8CA2-3A8F6FF5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4900-7BBD-4FF8-8CF9-EBCC9EAB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9D844-3497-4E1F-8AD0-38F95E10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DA325-A995-4D4D-BAF0-A7E52825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C200E-E373-4FF6-9F89-8277340D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AEE85-D61A-4BEE-972C-1FC35D3E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D2D23-5EDA-4A22-B5ED-9B623AF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7F942-C396-4277-89FB-5D0DF8F5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D84B9-0981-4B2E-8102-25229C87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6BEBE-BEC7-4FAE-953E-9D7439B9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43619-0425-4853-A6FB-DCE70C4E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DF12-0F7A-4F19-8263-B60C5914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53B0-06B9-41BB-BF5B-17F5EBE2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4A15-97D0-4FDA-960B-6AE300E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635F-06C2-4D25-A9CB-B0E59D9E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7C03-0495-4EA0-97B4-D16CDA65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EF88-4BF3-46A2-AD9F-B0EBA3B3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74D5-FCAE-4E74-9A0B-A6FB4B67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E137-5AE8-42DA-B49C-91BE1673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ACC3-0F04-4E80-BAC8-991BB5E1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FAF4-CCC0-4356-855F-02F8E9EC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0606-A550-4380-B7BC-70F9BAFF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B01B-86D7-4CA8-BF4C-5BA9B43A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2B2F-D45B-4B65-9B4D-F32B9A03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6857-03D8-4B0C-905F-DBFC7938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DB10-82FB-4474-B66E-169D76DD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68AE7-3456-4517-9D76-14EA7A47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536A-91E0-42A8-AD3A-C5E53B5A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92FC2-BC5F-40C1-AD12-CBDC0D25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C747-BA5B-44DA-857A-91655376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7052B-0295-440F-9C9F-0C4F486F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310A-73BF-48F3-85C8-4E407AFE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CDA0-9963-4FA6-ABE6-C3097251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5D1DC-011F-4D68-915B-FBEA1D7D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E8BD0-A3A8-4310-8E20-239370A3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34501-6769-4682-AEB7-3239A154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F0ED-8D1F-4D7B-A306-726C957A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57D3-650B-4637-B221-C4B51FE9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CD53-C3D2-461B-B16E-1533B28E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1FDEB-131A-46B4-99E1-1818A895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3BEF-BBD3-48B7-B11E-7381F21D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418BF-47F9-4513-9273-233180BD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CECCE-00BB-40FD-BE80-A268F4B6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A421E-CFF1-414B-AD74-AD44AB6D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BDDAA-3D2C-4D89-A3D6-97C2EE02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10C6F-E716-42E4-AB9C-5BEEA221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1FA54-AF23-408D-9AC0-57F4BEFF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0B6F-EA53-43EF-A5AD-E649C3A3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BA97B-B1C2-4561-B0AB-0E335B60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B1B2B-15B4-43C4-AAE3-99B9B8DA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0F82-4E87-4737-814F-7E25221C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4398E-CC73-48D0-91BB-93BF53FF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3292E-5176-4C4E-9C4E-B9E9B090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BAF4B-E48A-44A7-B517-74E4F555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142FC-E588-4A1A-9196-9FB7607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CE02-CD2F-4502-BE47-49E9CF00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F4F57-2BAA-4E3A-B3E9-EEAFF3D9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17484-3125-4504-9F67-1C938018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B1CE-DC53-4D41-B47E-09F94D7B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FE084-E68E-4306-9F8E-08986B83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D1AED-6875-4FE8-9A7E-F5CD5800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5E492-9D98-445C-A010-CA3D164B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93C0C-5E35-46FC-BB7A-01D90648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F64FE-8F9F-40D2-AA64-FE5CF180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F8D12-CFFD-4289-A6E0-EE7330AB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B0E1A-70E8-49C4-9579-0C86023A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1B889-9319-45C2-9448-44B87E82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5EBF5-F787-4FFA-BEA6-E11358D8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51492-ACD6-47C8-93F2-1DAA7E1C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1D50-634A-4167-8A8D-D623CC12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71F68-C965-4DA4-9525-788CC778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21669-3A14-45B4-9719-003B3925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E055E-F94D-4164-B223-60F554B2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75DB3-A60B-4F74-B8ED-C60397F8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D861E-430F-4A73-8905-8EF006C2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D0D0D-8879-403A-99D8-A3D42D33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F32F4-D16E-4BF8-86A0-3A3524D6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A7BB8-7784-4710-9671-0B049188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9DAC7-3C89-4F01-9FF8-6C790EAA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F9927-D740-43D4-A353-BA510AB7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8566-6C2C-442D-99EF-44ACD79B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C5771-BF48-4D52-B51C-6450A24B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39E66-1CB7-49A2-ADDA-2F68BB5C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91044-F915-436D-BB8E-4AA7BDA2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9D7BD-9519-4E38-AB46-11517802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ED5BA-3514-4E92-9E6F-10741828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A16D1-3471-4A52-B0C4-B191BF2A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A7C21-432E-4142-9016-7980D442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474A2-B30D-4233-BD56-7B781328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57205-2E1F-4BE0-B618-76BFE66E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E0FFF-F6D6-478A-B7F6-2B387062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E1C4-1F34-4287-A971-D18F4551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78451-1347-49B7-80AE-46DD83F5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9051-29D8-41CD-89C7-6358458D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18C4D-5B34-455B-8025-B6E01D9D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D5E5E-D2B4-4054-A9EE-918E54BE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FBA01-CF57-4F6F-94D2-33AEA34A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C6FAA-500A-4996-BF4C-73C70B2A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D3471-253B-4105-9059-D299B2D1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CD78A-7458-46B6-BB33-79475EA3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CFA93-0A9D-4E55-94AB-032681EB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48D68-A0A1-4E74-B281-F19E85FA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3797-04AC-418E-B2EB-73E09F417C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3BD1-8D07-498B-8A12-90F2B8B5A0EA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1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Rectangle 13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2351-CC5A-4111-A828-0A10FF150262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1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9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13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5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6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5441-8F07-4363-80C4-6A5942CD4CBF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5BA7-A3DC-49DA-8B4F-41FC51DCC364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4776-811A-4307-9883-634E3CBB2FB0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88CB-ACA5-4500-9835-C64EF26A6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6640-2DB7-469B-A255-558705F9613E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7003-A60C-499F-ADD5-0F952F94DA3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1190-D4D3-4F4E-B15E-408DF2E9C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1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3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55C4-2678-4872-828F-4FAD66F5AA68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1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37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Rectangle 14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3A59-6CFB-44BC-AEC5-8EC714192B34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Straight Connector 11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739-19A8-49A0-A9B2-1450820C2591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1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C109-CA5C-4F61-A48F-FE3C832D2467}" type="slidenum">
              <a:rPr b="0" lang="en-US" sz="18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Rop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Alyssa DelCa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 Black"/>
              </a:rPr>
              <a:t>THE EN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 Primavera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  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oselita lleva las botas, los pantelones, la camisa, la chaleco y la gafas de sol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695" name="Picture 6" descr="blah"/>
          <p:cNvPicPr/>
          <p:nvPr/>
        </p:nvPicPr>
        <p:blipFill>
          <a:blip r:embed="rId1"/>
          <a:srcRect l="-10430" t="0" r="-10430" b="0"/>
          <a:stretch/>
        </p:blipFill>
        <p:spPr>
          <a:xfrm>
            <a:off x="403236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a Primavera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97" name="Picture 7" descr="coat_grey"/>
          <p:cNvPicPr/>
          <p:nvPr/>
        </p:nvPicPr>
        <p:blipFill>
          <a:blip r:embed="rId1"/>
          <a:stretch/>
        </p:blipFill>
        <p:spPr>
          <a:xfrm>
            <a:off x="228600" y="1600200"/>
            <a:ext cx="3367080" cy="449568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962160" y="2894040"/>
            <a:ext cx="361764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Grace lleva un jaqueta, un pantelones y una zappatos.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Oto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58880" y="2830680"/>
            <a:ext cx="40291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ia lleva una  vestido y una zappa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1" name="Picture 7" descr="Rosalita"/>
          <p:cNvPicPr/>
          <p:nvPr/>
        </p:nvPicPr>
        <p:blipFill>
          <a:blip r:embed="rId1"/>
          <a:stretch/>
        </p:blipFill>
        <p:spPr>
          <a:xfrm>
            <a:off x="5172120" y="1601640"/>
            <a:ext cx="333216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Oto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8480" y="2754360"/>
            <a:ext cx="4030560" cy="18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ejandra lleva un camisetta, la falda, la pulsera y los zapp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4" name="Picture 6" descr="skirt"/>
          <p:cNvPicPr/>
          <p:nvPr/>
        </p:nvPicPr>
        <p:blipFill>
          <a:blip r:embed="rId1"/>
          <a:stretch/>
        </p:blipFill>
        <p:spPr>
          <a:xfrm>
            <a:off x="503280" y="1601640"/>
            <a:ext cx="372420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El Verano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2895120"/>
            <a:ext cx="3616200" cy="13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uzette lleva una traje de bano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707" name="Content Placeholder 8" descr="suzette"/>
          <p:cNvPicPr/>
          <p:nvPr/>
        </p:nvPicPr>
        <p:blipFill>
          <a:blip r:embed="rId1"/>
          <a:srcRect l="-207" t="0" r="-207" b="0"/>
          <a:stretch/>
        </p:blipFill>
        <p:spPr>
          <a:xfrm>
            <a:off x="403236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Vera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709" name="Content Placeholder 8" descr="canvas.png"/>
          <p:cNvPicPr/>
          <p:nvPr/>
        </p:nvPicPr>
        <p:blipFill>
          <a:blip r:embed="rId1"/>
          <a:srcRect l="-8903" t="0" r="-8903" b="0"/>
          <a:stretch/>
        </p:blipFill>
        <p:spPr>
          <a:xfrm>
            <a:off x="228600" y="1600200"/>
            <a:ext cx="4346640" cy="4876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495320" y="29718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la lleva un camiseta y los pantalones cor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</a:t>
            </a: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Invier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ejandra lleva un botas y un jaqe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3" name="Content Placeholder 8" descr="coat and boots"/>
          <p:cNvPicPr/>
          <p:nvPr/>
        </p:nvPicPr>
        <p:blipFill>
          <a:blip r:embed="rId1"/>
          <a:srcRect l="-39125" t="0" r="-39125" b="0"/>
          <a:stretch/>
        </p:blipFill>
        <p:spPr>
          <a:xfrm>
            <a:off x="3962520" y="1219320"/>
            <a:ext cx="4800600" cy="53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</a:t>
            </a: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Inviern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715" name="Content Placeholder 8" descr="suit"/>
          <p:cNvPicPr/>
          <p:nvPr/>
        </p:nvPicPr>
        <p:blipFill>
          <a:blip r:embed="rId1"/>
          <a:srcRect l="-9488" t="0" r="-9488" b="0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onio lleva un traje y una corb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9:28:54Z</dcterms:created>
  <dc:creator>delcampoaly</dc:creator>
  <dc:description/>
  <dc:language>en-US</dc:language>
  <cp:lastModifiedBy>Wendy Delcampo</cp:lastModifiedBy>
  <dcterms:modified xsi:type="dcterms:W3CDTF">2011-01-28T09:47:38Z</dcterms:modified>
  <cp:revision>3</cp:revision>
  <dc:subject/>
  <dc:title>Ropa</dc:title>
</cp:coreProperties>
</file>